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4E7-5298-4DE2-A7D5-30BD233C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FBD-5BFF-41BA-BBE9-9D8FE114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84F-D89C-4ECD-9ED7-B2F844CB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3F4-BB16-41C2-85E7-371D599E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E524-CC6C-4E38-92AB-5311477F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233F-E4B5-4C3F-A668-06CD911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5808-B310-4730-89B5-57F569AE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687-317E-4422-94D8-60B41F0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F15A-D444-4529-A8F8-815E2E5C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8734-6B90-4D51-A6BC-68D0C4D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8A58-CDF5-4C5A-86DB-8294483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5DD-B812-4677-9A89-AD6396A9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4709-5A77-46DB-9EC1-DF10596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7545-FE33-4E24-B9D7-5A05775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7F6-9142-48A1-9329-99EE7E4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165C-AB67-42BE-8956-BB94F01C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43D6-14A1-46AB-8272-68AFA57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A7A-F6E8-4378-8D8E-89E2742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08F-C1D4-41B1-A7DA-4BDAA0E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755-6654-4E1F-A95D-AE1B54F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4B1-DCD9-4517-9312-70506018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0E1-92BD-4678-993F-9559B7B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467-8D58-41D8-AFCD-BA00883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C21-0AB8-4386-B3E4-09B531A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B74D-6321-4508-8A54-1BCFBD3E4B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2FBA-B59C-4D50-8E11-E89739ABEC5F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за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00000" y="314172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29"/>
                </a:solidFill>
                <a:latin typeface="Arial"/>
              </a:rPr>
              <a:t>Простота и гениальност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29"/>
                </a:solidFill>
                <a:latin typeface="Arial"/>
              </a:rPr>
              <a:t>Фильма «Баллада о солдате»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929"/>
                </a:solidFill>
                <a:latin typeface="Arial"/>
              </a:rPr>
              <a:t>Григория Чухрая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48960" y="4292280"/>
            <a:ext cx="7661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южет построен как баллада, начало и конец образуют кольцо, действие в котором развивается по поэтическим законам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157720" cy="389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Ивашов_Владимир_Баллада_о_солдате_06"/>
          <p:cNvPicPr/>
          <p:nvPr/>
        </p:nvPicPr>
        <p:blipFill>
          <a:blip r:embed="rId1"/>
          <a:stretch/>
        </p:blipFill>
        <p:spPr>
          <a:xfrm>
            <a:off x="4140360" y="206064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60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Фильм «Баллада о солдате» создавался в те времена, когда не принято было говорить о Боге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И все же герои фильм будто живут по заповедям Божьим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 главный герой Алеша Скворцов действует точь-в-точь по завету «возлюби ближнего своего как самого себя»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_f"/>
          <p:cNvPicPr/>
          <p:nvPr/>
        </p:nvPicPr>
        <p:blipFill>
          <a:blip r:embed="rId1"/>
          <a:stretch/>
        </p:blipFill>
        <p:spPr>
          <a:xfrm>
            <a:off x="1332000" y="333360"/>
            <a:ext cx="5616360" cy="4254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403280" y="494172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омогал солдат всем без исключения, для каждого находил время – такое бесценное, быстро утекающее – он дарит его людям, и даже не чувствует, что не так много мгновений отписала ему жизнь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143000" y="708120"/>
            <a:ext cx="7029360" cy="531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ec1cf0ddba54"/>
          <p:cNvPicPr/>
          <p:nvPr/>
        </p:nvPicPr>
        <p:blipFill>
          <a:blip r:embed="rId1"/>
          <a:stretch/>
        </p:blipFill>
        <p:spPr>
          <a:xfrm>
            <a:off x="1403280" y="90792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sob11_05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842160" cy="466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7129440" cy="4467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15824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кат фильм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Баллада о солда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6a32"/>
                </a:solidFill>
                <a:latin typeface="Arial"/>
              </a:rPr>
              <a:t>Время в фильме является ключевой метафорой жизни главного гер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2349000"/>
            <a:ext cx="76611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 шесть дней, что даются главному герою Алеше Скворцову, он должен успеть прожить маленькую жизнь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Шесть дней как возможность жить и помогать другим, тем, кто нуждается в помощи и благодаря этим добрым поступкам навсегда остаться в памяти людей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3284280"/>
            <a:ext cx="835164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ремя или, вернее, его быстротечность, цейтнот присутствует в кадре и нагнетается весь фильм: то в сообщениях о времени прибытия поезда, то в гудке поджидающей солдата машины, как бы напоминая, что времени у него в обрез, не только на дорогу, на жизнь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6" descr="46e593e8365c4770b3690a29a964"/>
          <p:cNvPicPr/>
          <p:nvPr/>
        </p:nvPicPr>
        <p:blipFill>
          <a:blip r:embed="rId1"/>
          <a:stretch/>
        </p:blipFill>
        <p:spPr>
          <a:xfrm>
            <a:off x="2411280" y="260280"/>
            <a:ext cx="4753080" cy="267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48960" y="3645000"/>
            <a:ext cx="766116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Эти шесть дней – целая жизнь, где уместилось так много добра и света, столько хороших поступков и нужных слов, а, главное, любовь…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sob11_full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5636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15824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6a32"/>
                </a:solidFill>
                <a:latin typeface="Arial"/>
              </a:rPr>
              <a:t>Встреча Алеши с мат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Баллада о солдате. Встреча с матерью.mp4" descr=""/>
          <p:cNvPicPr/>
          <p:nvPr/>
        </p:nvPicPr>
        <p:blipFill>
          <a:blip r:embed="rId1"/>
          <a:stretch/>
        </p:blipFill>
        <p:spPr>
          <a:xfrm>
            <a:off x="1436760" y="1557360"/>
            <a:ext cx="6649920" cy="498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1859040"/>
            <a:ext cx="3754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46a32"/>
                </a:solidFill>
                <a:latin typeface="Arial"/>
              </a:rPr>
              <a:t>«Он мог бы стать замечательным гражданином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46a32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946a32"/>
                </a:solidFill>
                <a:latin typeface="Arial"/>
              </a:rPr>
              <a:t>Он мог бы строить или украшать земли сада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46a32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946a32"/>
                </a:solidFill>
                <a:latin typeface="Arial"/>
              </a:rPr>
              <a:t>Но он был и навечно останется в нашей памяти солдатом, русским солдатом»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3654720" cy="501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187280" y="727200"/>
            <a:ext cx="6913800" cy="522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1438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ды и призн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емия BAFTA (1961):  Лучший филь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оминация на премию BAFTA: Лучший иностранный актёр — Владимир Иваш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оминация на премию Оскар (1961): лучший оригинальный сцена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онкурсная программа Каннского кинофестиваля (1960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з за лучший фильм для молодёжи Каннского кинофестиваля (1960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емия Bodil (1961): приз за лучший европейский филь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емия МКФ в Сан-Франциско «Золотые ворота» (1960): Лучший фильм, Лучший режиссёр (Григорий Чухрай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Ленинская премия (1961) — Григорий Чухрай, Валентин Еж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Хиль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сня «Шел солда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allad of a Soldier ( Баллада о солдате) - 1959 Soviet film.mp4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03760" cy="487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имир Иваш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ли Алеши Сквор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Picture 4" descr="15543"/>
          <p:cNvPicPr/>
          <p:nvPr/>
        </p:nvPicPr>
        <p:blipFill>
          <a:blip r:embed="rId1"/>
          <a:stretch/>
        </p:blipFill>
        <p:spPr>
          <a:xfrm>
            <a:off x="2484360" y="1844640"/>
            <a:ext cx="616608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на Прохоренк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ли Шу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zhanna_prokhorenko_58937-1024x768"/>
          <p:cNvPicPr/>
          <p:nvPr/>
        </p:nvPicPr>
        <p:blipFill>
          <a:blip r:embed="rId1"/>
          <a:stretch/>
        </p:blipFill>
        <p:spPr>
          <a:xfrm>
            <a:off x="2484360" y="1754280"/>
            <a:ext cx="633564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горий Чухра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643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«И ему (В.Ежову), и мне хотелось рассказать о нашем сверстнике, герое — солдате, отдавшем жизнь за Родину, — без громких фраз, просто, грустно и честно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ы не стремились воздвигать ему монумент. Мы хотели рассказать о нем простыми человеческими словами. Оба мы были в этой войне солдатами и знали, что победили в ней не сверхчеловеки, а люди. В этом мы видели величие нашей победы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аких героев, как Скворцов, мы встречали на фронте. Им так же, как другим, было страшно, больно и трудно, но, вопреки всему этому, они выполнили свой долг, ибо чувство человеческого достоинства, чувство любви к людям оказалось в них сильнее страха и самой смерти».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786120" cy="3647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999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Некоммуникабельности, отчуждению — этим главным мотивам западного искусства, "Баллада о солдате" противопоставила свою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еру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; сложности —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остые истины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 оплаченные жизнью; всеобщей относительности — верное знание того, что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хорошо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 а что плохо; изображению трагического одиночества человека —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бро, любовь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людские связи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, возникающие даже в аду войны, ибо они есть естественная потребность человека»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61320" cy="464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826920" y="1773360"/>
            <a:ext cx="784872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кажите, какие чувства у вас вызвал фильм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- Какими эпитетами вы могли бы охарактеризовать главного героя Алешу Скворцов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- Что важного для себя вы узнали, поняли, вынесли после просмотра этого фильм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- Считаете ли вы правильным, что Алеша тратил столько драгоценное время отпуска, чтобы помочь другим людям. Как бы на его месте поступили в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- Как бы вы охарактеризовали образ Шурки в фильме и ее роль в судьбе Алеш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- Какую сцену вы назвали бы ключевой в фильм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- Как бы вы сформулировали общую идею фильма, которую вкладывал в него режиссер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для дискусс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20:45:58Z</dcterms:created>
  <dc:creator>User</dc:creator>
  <dc:description/>
  <dc:language>en-US</dc:language>
  <cp:lastModifiedBy>СЦРО</cp:lastModifiedBy>
  <dcterms:modified xsi:type="dcterms:W3CDTF">2015-03-30T06:25:39Z</dcterms:modified>
  <cp:revision>20</cp:revision>
  <dc:subject/>
  <dc:title>XII городская научно-практическая конференция школьников «Первые шаги в науку»</dc:title>
</cp:coreProperties>
</file>